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290-999E-4140-B7C8-C7768106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87B1-2C5B-42F0-8187-3D4B9E3D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C9D0-49E8-41FA-98CF-CD35205A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CD23-CCD4-47E6-8163-526585E0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653C-1465-437F-832E-3434EB20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85E2-A5A4-4C2A-8391-B6219395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340-32F6-44B3-A47F-B3A878F4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D17-BF06-47A1-9BD9-452BBFB0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B147-6247-4FEE-81C6-F0FE682B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954-59E2-4732-B997-382BBD08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41D8-DC83-4CAB-B076-3977AB98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FDD2-5DF7-48B0-84A0-7D2794EE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64A99B-E43B-4E0B-B903-A69DBF8DEC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19137-6E11-4DEF-9387-2C78E1F34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10: Activity Theory, Prototyping and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prototyp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taining feedback on redes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ing concepts are correct before making major mistak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ing usability of redesign in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ing avenue for alternative options if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volving users and achieving buy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w-fidelity proto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ily made, easily changed, easily destroy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ap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es on broad details of redesign vs. specific details (although core details of the redesign are represen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not leave the user the impression that design is fi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-fi consid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bustness – often needs to be overengineered to encourage pl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pe – don’t sweat the minor or inconsequential details (e.g., aesthetic concerns aren’t a major issue here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 usable as intended – if too many instructions are required, that’s no g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otation – users should be able to offer comments on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SA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nell’s team – 2-3 low-fi prototypes built of wood, random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ps determine packaging, balance, ergonomics, but obviously not r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efits – a well packaged car, no surprises in final design (which happens frequently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-fidelity proto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pecially common in electronic products and software, but also possible for other sp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 attention to detail, resembling final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probably be misconstrued as final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ennial be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everything in social media/Web 2.0 “beta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beta?  Alph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types in use at 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PS example – PICTIVE method used to develop low-fi software prototypes (paper, string, etc. to represent data flow in hands-on environ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-fi prototypes constructed from plans as proof of concept, returned to students for input and appro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r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you trying to prove in evalu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prototypes – general proof of concep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r – more attention to detail, specific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ighting of requirements might be juggled as users engage prototy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measured, never managed” – managers really enjoy quantitative evide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 tied to evaluation of redesign, alternative future path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 data at this point – summary information vs. raw data from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y The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resents complexity of interaction among subjects, objects, artefacts and cultural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theory, can be hard to use in practice - but also quite powerfu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fectiveness, Efficiency, Satisf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ness – task completion, error rates reduced, memor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 – time to task completion, reduction of steps, learning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isfaction – general aesthetic impression and emotional feel, voluntary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t Lifecy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design is ever “done” – even when released, there’s often teams of people trying to figure out what’s n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s weighting – sometimes you have to release something and make the rest version 2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soft’s model – prototype as product, eventually getting it r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tir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s for end-of-life important as well - some designs EOL bett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concerns – increasingly companies held accountable for disposal – examp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for dead technologies – even if no longer sold, consumers expect some support – examp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Wee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 22:  Test Review/Presentations of Final Redesigns in 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 29:  Test (no la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n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371600" y="1600200"/>
            <a:ext cx="6629400" cy="44197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3048120" y="3809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4"/>
          <p:cNvSpPr/>
          <p:nvPr/>
        </p:nvSpPr>
        <p:spPr>
          <a:xfrm>
            <a:off x="3048120" y="3809880"/>
            <a:ext cx="17524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 flipV="1">
            <a:off x="4876920" y="3809520"/>
            <a:ext cx="144756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264560" y="10666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te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88200" y="33926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901560" y="339264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84720" y="6019920"/>
            <a:ext cx="7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194720" y="60958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7770600" y="6035760"/>
            <a:ext cx="11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vis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b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des in Activity Triang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 -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 - goal,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efact - tools,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- others affected by th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ision of Labour – the role of power relations in accomplishing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axis – norms/mores governing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adi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- conflict at node (e.g., two subjects having different no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 - conflict between nodes (e.g., power relations interfering with successful formation of objec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tiary - conflicts when activities are redesigned (e.g., change in model conflicts with old expec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rternary - conflicts between simultaneous activities (e.g., one activity diagram contradicts anoth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aborative virtual environments - VR which embodies user in virtual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ords interaction with other embodied users in real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Life as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y Theory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s - conference attend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 - engage in collaboration, ta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efacts - virtual conference environment, posters, websit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ty - attendees, lur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vision of Labour - who is/is not allowed to talk at any given time, access restri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xis - expectations of conference environment, turn-tak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adi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: coordinating individuals wishing to talk at the same ti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ary: establishing new relations of power in flattened hierarc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tiary: old vs. new conference expectations (e.g., changes in prax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ernary: issues in synchronous remote communication (e.g., what other things are attendees doing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intermediate step before final design (or in this case, what you’ll be presenting in most cas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ic functionality is repres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esign goals are made functional, acce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5:40:36Z</dcterms:created>
  <dc:creator>Sheridan College</dc:creator>
  <dc:description/>
  <dc:language>en-US</dc:language>
  <cp:lastModifiedBy>Sheridan College</cp:lastModifiedBy>
  <dcterms:modified xsi:type="dcterms:W3CDTF">2010-03-15T15:54:26Z</dcterms:modified>
  <cp:revision>8</cp:revision>
  <dc:subject/>
  <dc:title>Slide 1</dc:title>
</cp:coreProperties>
</file>